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195" spc="-1" strike="noStrike">
                <a:solidFill>
                  <a:srgbClr val="000000"/>
                </a:solidFill>
                <a:latin typeface="Arial"/>
              </a:defRPr>
            </a:pPr>
            <a:r>
              <a:rPr b="0" sz="2195" spc="-1" strike="noStrike">
                <a:solidFill>
                  <a:srgbClr val="000000"/>
                </a:solidFill>
                <a:latin typeface="Arial"/>
              </a:rPr>
              <a:t>Ezequiel Balbino</a:t>
            </a:r>
          </a:p>
        </c:rich>
      </c:tx>
      <c:layout>
        <c:manualLayout>
          <c:xMode val="edge"/>
          <c:yMode val="edge"/>
          <c:x val="0.387066503467972"/>
          <c:y val="0.020109993889228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10403916769"/>
          <c:y val="0.12065996333537"/>
          <c:w val="0.751203590371277"/>
          <c:h val="0.8391756013554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Ezequiel Balbino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2009 março</c:v>
                </c:pt>
                <c:pt idx="1">
                  <c:v>2009 abril</c:v>
                </c:pt>
                <c:pt idx="2">
                  <c:v>2009 maio</c:v>
                </c:pt>
                <c:pt idx="3">
                  <c:v>2009 junh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36.96</c:v>
                </c:pt>
                <c:pt idx="1">
                  <c:v>30.83</c:v>
                </c:pt>
                <c:pt idx="2">
                  <c:v>91.41</c:v>
                </c:pt>
                <c:pt idx="3">
                  <c:v>97.5</c:v>
                </c:pt>
              </c:numCache>
            </c:numRef>
          </c:val>
        </c:ser>
        <c:gapWidth val="100"/>
        <c:overlap val="0"/>
        <c:axId val="90509090"/>
        <c:axId val="21764992"/>
      </c:barChart>
      <c:catAx>
        <c:axId val="9050909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64992"/>
        <c:crossesAt val="0"/>
        <c:auto val="1"/>
        <c:lblAlgn val="ctr"/>
        <c:lblOffset val="100"/>
        <c:noMultiLvlLbl val="0"/>
      </c:catAx>
      <c:valAx>
        <c:axId val="217649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0909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91228070175439"/>
          <c:y val="0.455308038442309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351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3101" spc="-1" strike="noStrike">
                <a:solidFill>
                  <a:srgbClr val="000000"/>
                </a:solidFill>
                <a:latin typeface="Arial"/>
              </a:defRPr>
            </a:pPr>
            <a:r>
              <a:rPr b="0" sz="3101" spc="-1" strike="noStrike">
                <a:solidFill>
                  <a:srgbClr val="000000"/>
                </a:solidFill>
                <a:latin typeface="Arial"/>
              </a:rPr>
              <a:t>Ezequiel Balbino 2009</a:t>
            </a:r>
          </a:p>
        </c:rich>
      </c:tx>
      <c:layout>
        <c:manualLayout>
          <c:xMode val="edge"/>
          <c:yMode val="edge"/>
          <c:x val="0.291379586604711"/>
          <c:y val="0.019941717616136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87261656786"/>
          <c:y val="0.145763099251471"/>
          <c:w val="0.731333119692357"/>
          <c:h val="0.81429632592423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3</c:v>
                </c:pt>
                <c:pt idx="1">
                  <c:v>120</c:v>
                </c:pt>
                <c:pt idx="2">
                  <c:v>138</c:v>
                </c:pt>
                <c:pt idx="3">
                  <c:v>120</c:v>
                </c:pt>
                <c:pt idx="4">
                  <c:v>42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17</c:v>
                </c:pt>
                <c:pt idx="1">
                  <c:v>37</c:v>
                </c:pt>
                <c:pt idx="2">
                  <c:v>117</c:v>
                </c:pt>
                <c:pt idx="3">
                  <c:v>117</c:v>
                </c:pt>
                <c:pt idx="4">
                  <c:v>288</c:v>
                </c:pt>
              </c:numCache>
            </c:numRef>
          </c:val>
        </c:ser>
        <c:gapWidth val="100"/>
        <c:overlap val="0"/>
        <c:axId val="16905251"/>
        <c:axId val="78538756"/>
      </c:barChart>
      <c:catAx>
        <c:axId val="1690525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38756"/>
        <c:crossesAt val="0"/>
        <c:auto val="1"/>
        <c:lblAlgn val="ctr"/>
        <c:lblOffset val="100"/>
        <c:noMultiLvlLbl val="0"/>
      </c:catAx>
      <c:valAx>
        <c:axId val="78538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0525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71190514340651"/>
          <c:y val="0.40003428375521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908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C5D00-F288-452A-9670-C86A21FEC0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BC3-28C6-4AC1-B4E2-0137A631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49C-62F6-497B-AD36-047386D7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7EA-2B74-4775-86A8-5D513ECE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657-D8A7-4AC6-A596-D8058749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54A-03B2-456C-9CC2-7AA25F37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3561-CC3C-479A-B570-3FF24C95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F4B-A641-4D48-BFE0-EC7F9926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102-CFF9-4854-BAE8-C8BB5F9F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33280"/>
            <a:ext cx="9066240" cy="64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4DB-96D6-4905-8A46-562CCC47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EEA-17CD-4567-A639-95EA5986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80F-073F-43E7-B9D2-8810F41F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629-1FE6-4B7A-947F-D8172D49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57B34-876B-4CF1-9292-5116E39FAB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6400" y="360360"/>
          <a:ext cx="8823600" cy="64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54040" y="539640"/>
          <a:ext cx="8986680" cy="6300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